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35B-B33F-4C5A-8100-AA90EDE7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EE5-DB7F-4599-917F-A69A8CC7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5F9-D801-45C8-8500-549F517B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0CA-511D-436D-91FC-0F41DFF1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F7F-5BC4-4BD7-AA64-BA41B513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24C-1CCC-4D58-9566-671ACEDE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A37-4C93-4FAA-9971-ED34ABBD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4D7-2F3D-4AD0-9E51-70DA0C62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DE1-52E9-4E44-A77F-9ABDCCDD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C46-F277-493A-93AF-3D963BA8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1ED-2A56-43CA-AF3B-7B424E7E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E34-9DF9-482B-B270-4DCA3E8F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725CC-33E2-4D77-801C-B793A573EE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FBFDE-49E0-4BB5-8533-7C6414BDD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 – get out your 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Is Krypton (Kr) a metal, nonmetal, or metalloid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Calibri"/>
              </a:rPr>
              <a:t>What group does gold (Au) belong to?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What family does zinc (Zn) belong to?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me two haloge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Name one alkali metal.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Which of the following facts about Astatine is false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Astatine is a metal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Astatine’s symbol is At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Astatine is a halogen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Astatine’s atomic number is 85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582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ich of the following facts about Hafnium is fals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afnium is a alkali metal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afnium’s symbol is Hf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afnium’s atomic number is 72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afnium is a metal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w and Homework Col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Guid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ndependen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8.5 Periodic Table Fami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.5 Periodic Table Fami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columns of the periodic table are called groups and famili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.5 Periodic Table Fami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700" spc="-1" strike="noStrike" u="sng">
                <a:solidFill>
                  <a:srgbClr val="000000"/>
                </a:solidFill>
                <a:uFillTx/>
                <a:latin typeface="Calibri"/>
              </a:rPr>
              <a:t>Elements in the first group are in the alkali metal family.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700" spc="-1" strike="noStrike" u="sng">
                <a:solidFill>
                  <a:srgbClr val="000000"/>
                </a:solidFill>
                <a:uFillTx/>
                <a:latin typeface="Calibri"/>
              </a:rPr>
              <a:t>Elements in group 17 are called halogens.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700" spc="-1" strike="noStrike" u="sng">
                <a:solidFill>
                  <a:srgbClr val="000000"/>
                </a:solidFill>
                <a:uFillTx/>
                <a:latin typeface="Calibri"/>
              </a:rPr>
              <a:t>Halogens and alkali metals are very reactive.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spcBef>
                <a:spcPts val="13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ich two groups are very reactive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spcBef>
                <a:spcPts val="13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group does fluorine (F) belong to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.5 Periodic Table Fami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Elements in the last group, group 18, are called noble gas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Noble gases do not react easily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Which group is nonreactive?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What group does Argon (Ar) belong to?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.5 Periodic Table Fami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Elements in groups 3-12 are called transition metals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6:52:01Z</dcterms:created>
  <dc:creator>Caroline Roth</dc:creator>
  <dc:description/>
  <dc:language>en-US</dc:language>
  <cp:lastModifiedBy>Caroline Roth</cp:lastModifiedBy>
  <dcterms:modified xsi:type="dcterms:W3CDTF">2011-03-27T17:38:19Z</dcterms:modified>
  <cp:revision>3</cp:revision>
  <dc:subject/>
  <dc:title>Do Now – get out your homework</dc:title>
</cp:coreProperties>
</file>